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A255-8D5C-4249-899B-12ED38F80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769-96F5-46C6-9C81-56718F3B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0EA-E77C-484C-BD1B-4FE24116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C4E-CCA6-4DDD-8189-031D8FFB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BF9-8F92-4CE6-B461-4A75E664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527-E594-4949-B393-CA7E703D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BA1-6284-4DCF-ABED-47788ACD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1DC-0DF6-4B25-A4FE-E852E008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627-16F5-49F7-A1FB-5350FC17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856-3546-4B7D-A82F-C6D9473E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B93-7F2F-4EEC-A34C-6DD355AD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C9B-1D04-4122-8780-46552A1A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D8F-7A0F-4D3E-B638-B458D75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A311-837F-40E3-8A70-A5CCAF51F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0017"/>
                </a:solidFill>
                <a:latin typeface="Georgia"/>
              </a:rPr>
              <a:t>Space, Time and Einste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278" t="-5412" r="0" b="-1796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ahred on shift at cdf"/>
          <p:cNvPicPr/>
          <p:nvPr/>
        </p:nvPicPr>
        <p:blipFill>
          <a:blip r:embed="rId1"/>
          <a:srcRect l="0" t="21272" r="0" b="0"/>
          <a:stretch/>
        </p:blipFill>
        <p:spPr>
          <a:xfrm>
            <a:off x="4572000" y="1905120"/>
            <a:ext cx="457200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About my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iginally from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5th year graduate student at the University of Chicago, working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duating in a few months with a measurement of the mass of the top quark (ask me what that means if you don’t kno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61280" y="5068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LEASE ask questions if something isn’t cl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57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7-01-26T10:22:54Z</dcterms:modified>
  <cp:revision>62</cp:revision>
  <dc:subject/>
  <dc:title>Space, Time and Einstein</dc:title>
</cp:coreProperties>
</file>